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6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11.png" ContentType="image/png"/>
  <Override PartName="/ppt/media/image4.png" ContentType="image/png"/>
  <Override PartName="/ppt/media/image2.gif" ContentType="image/gif"/>
  <Override PartName="/ppt/media/whoosh.wav" ContentType="audio/x-wav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E4D5-CD69-42AE-A7D6-C1257FBC7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C504-3133-41F6-AA45-F85100E526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BEB3-1084-4A1C-A9D1-EA238077AE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9E2C-7FEB-4994-BEA7-53A16EE542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03B3-085E-4307-99C8-E03985C9B3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7E50-A74E-4588-938F-52C4932168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D5C1-9CE1-46F6-8E38-701CD01968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F16B-52FB-4807-AEDE-46B19F4CC5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25D8-7BB6-40AD-9A2A-FF510BC1C5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AEEF-1822-4D48-8685-01BEE17C12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B4E6-96BF-4C4D-B365-B6615265D9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4479-87DF-4A4C-AF7E-3F6A979E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E9F9-0ADC-4F48-82B5-EE7648B9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4B07-69D5-4B23-BFCB-80C66BA9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5A58-8ACB-4BB9-913E-260CB392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5588-F118-421D-81FE-EA3CE582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59EE-D922-417A-BC15-5A8B6A61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4DA7-5AFE-41E0-B0F2-0AC85FBE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63AB-9251-48B0-907B-3C6C5AC8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06E3-86B1-45ED-8555-A05BBCB2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1E6C-8960-45B7-AADD-76DCA2AD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4633-466C-449E-85EF-FBA500B4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FBC3-25FA-4F50-AD34-0549AFAB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5B3E-778C-4B63-9862-A98583F4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F805-990B-43C4-B3BD-4009F049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E154-9F85-465A-9D78-FD5CB630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DBAC-61B4-4CED-A8BB-36BBB433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DE90-59EE-4459-A4DC-F1F2EA93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D784-0504-4608-B0F3-6C592E09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94D4-A11A-452B-ACBC-D391823F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508C-ACCC-4103-85F9-E259C147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45DE-BCA9-402B-8180-8695164A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8B57-D866-4C84-A77E-1FD9E9C6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9D9D-9B80-4755-893D-00A52C3F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1E9F-6251-44CB-89B4-3E213224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5BB8-ABE0-48D6-B208-23ACB61D5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39A4-BDAE-4A8A-9990-3274A18062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6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3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4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XECUTIVE BRANCH ONQ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Questions to check your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answers ON A SEPARATE PIECE OF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95400"/>
            <a:ext cx="9144000" cy="28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9. What are the qualifications to be Vice President of the United State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3027240" y="3124080"/>
            <a:ext cx="3089520" cy="332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43344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0. What is the total number of electoral votes available to Presidential candidate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7772400" cy="3657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3"/>
          <a:stretch/>
        </p:blipFill>
        <p:spPr>
          <a:xfrm>
            <a:off x="1938240" y="3067200"/>
            <a:ext cx="526752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Which article of the Constitution establishes the Executive Branch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609480" y="3525840"/>
            <a:ext cx="3459240" cy="2590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3"/>
          <a:stretch/>
        </p:blipFill>
        <p:spPr>
          <a:xfrm>
            <a:off x="5181480" y="3048120"/>
            <a:ext cx="3124440" cy="439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8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How many electoral votes does a candidate need to win the Presidential election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3"/>
          <a:stretch/>
        </p:blipFill>
        <p:spPr>
          <a:xfrm>
            <a:off x="3271680" y="2819520"/>
            <a:ext cx="2600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-457200"/>
            <a:ext cx="8915400" cy="34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Name the three qualifications to be President of the United States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2"/>
          <a:stretch/>
        </p:blipFill>
        <p:spPr>
          <a:xfrm>
            <a:off x="2847960" y="2854440"/>
            <a:ext cx="3448080" cy="33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8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A President is limited to serving no more than __ years as President of the United States.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3"/>
          <a:stretch/>
        </p:blipFill>
        <p:spPr>
          <a:xfrm>
            <a:off x="2971800" y="2895480"/>
            <a:ext cx="2536920" cy="389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7714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How many electoral votes does Tennessee hav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3"/>
          <a:stretch/>
        </p:blipFill>
        <p:spPr>
          <a:xfrm>
            <a:off x="1600200" y="3048120"/>
            <a:ext cx="550692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7714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6. What Amendment limits Presidential term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7772400" cy="3657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3"/>
          <a:stretch/>
        </p:blipFill>
        <p:spPr>
          <a:xfrm>
            <a:off x="2428920" y="2895480"/>
            <a:ext cx="4286160" cy="3198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4"/>
          <a:stretch/>
        </p:blipFill>
        <p:spPr>
          <a:xfrm>
            <a:off x="5410080" y="3990960"/>
            <a:ext cx="1305000" cy="9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43344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7. What is the FIRST cabinet position in the line of succession for Presiden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7772400" cy="3657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3"/>
          <a:stretch/>
        </p:blipFill>
        <p:spPr>
          <a:xfrm>
            <a:off x="2744640" y="2895480"/>
            <a:ext cx="3654720" cy="370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43344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8. What is the LAST cabinet position in the line of succession for Presiden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7772400" cy="36576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3"/>
          <a:stretch/>
        </p:blipFill>
        <p:spPr>
          <a:xfrm>
            <a:off x="2259000" y="2965320"/>
            <a:ext cx="4626000" cy="370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2-24T17:51:28Z</dcterms:modified>
  <cp:revision>143</cp:revision>
  <dc:subject/>
  <dc:title>D/O: TO EXPLAIN AND IDENTIFY PROBLEMS OF ECONOMICS</dc:title>
</cp:coreProperties>
</file>